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5EC-EFAE-47AE-AA21-EB1DE524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C82-ED45-4748-86A6-03255549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68EBB-9AB2-463E-AB96-97D56F8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A1EC-4D27-45A1-A51B-DF496F1B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523E1-A5D7-4ECD-B5A7-F073DD5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28612-07CB-4163-BC95-DC5D67B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BB32A-A37D-4F75-9850-6E16200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84820-8879-4C38-A741-9C5F7A4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1ABF6-FE6F-46FC-8FF7-4456603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AEC9E-360E-4F92-A9D4-CC344AD4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6F387-3BA9-49FD-863D-899EFE96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B6DF-D2D5-40C7-B237-112E0DDF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B94-6CCD-4324-92E2-E9D95242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116C2-9A45-4820-ABE3-31D0927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F175-85BB-4764-A3B6-8CD40409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0DF0-D3D0-479D-A1ED-C51B1C8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150A-9FD4-4A6A-920E-3F2252E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C6D6-C540-4CCC-905B-91CEDA7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C4A48-7BEC-4110-AEF1-EF8A56F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9501F-34AA-469C-BF38-F221925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0EBA1-76FF-431A-8096-10A1D9E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D9F7-1FD1-438B-B346-E8A1B2C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2FAD9-DA47-4C45-92E3-C600BA18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A4F-87E7-47DF-99E4-B9D574F9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59DD2-7092-49E9-AADC-88005B7C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03738-6376-49CD-A06E-82ADEAAE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9AA11-EFE5-4CFE-9E76-4F0F3BC5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40C9-D23B-46CF-BB11-E79E33F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0DDC-53A1-42B9-9C83-CA150A5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CEFB-0FD4-49DD-ABF4-EFDDB63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B03DF-5571-40DD-BB19-5375A3C4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6559E-D357-4857-8963-3CBAE12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449F-23DB-4D6A-A3D0-4B34C93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C1D61-8046-4095-AF53-A6BF1CB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1A8-6214-44DF-AEC8-8AA5DED2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3BC80-1A9B-4EAC-99E8-09174E3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4CFBA-F62E-4960-9BF3-0CA148E3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4E11-5539-4576-83A6-B99D7660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35789-4893-48F5-AB01-FBABBF38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D97DC-C019-4ECC-BF9C-68824B6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4D83E-0B7F-4825-AF20-95CB064A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1AA42-2602-4CEF-876B-EC73D94F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947FC-D535-4B2C-A82D-AB0797D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D84AD-9935-4FDC-BE80-BC2DE86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D12AC-4F17-48D2-8386-1C134AC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63E-5A1C-49BE-A8DF-AADBD4B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09187-5094-45E2-86DA-5B6D0CA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3260F-CDA5-4147-A463-D61125B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B7741-7CA4-47BE-9395-F713DB3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6AF85-A5F3-479B-80F6-E43E4541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6C4D7-0A38-427F-A91F-E74786B8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3511-AFDE-4A45-AAA6-99A620DA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2AD-D07A-485C-A251-83E5114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74CF-F0FA-467E-8673-518E862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ACA-6CB9-4686-864A-36397C41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7B17-037C-4CF7-9DA9-59820CC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B87-CB05-4DB6-8BFE-ED4604AC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F43-6462-4B13-A42A-00D238B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96F-50A9-42C9-854A-4BFA790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C562-2743-4712-9418-4D7615A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71F3-CEEE-436D-97F3-3ED099C4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650E-2CCA-4588-AFE9-13E15A37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00B7-15A8-4BB3-90A4-975734BC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BCD5-1C8A-498C-8975-3D4BF1E4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E503-190F-4601-A58C-1AF2D21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E6D3-3E19-4D3E-BE2F-4ABBA51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EC7C-3500-447B-BDEF-DE9BD2B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2D4-DBE7-43C9-B532-05AB909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4121-7DF9-4CDA-8BFA-5751344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4A4E-57CF-4465-8AE2-E093AFD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98DF-4FCE-4231-831B-8156DBA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258A-857F-4A8E-A1D1-8D4596C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1BCE-8FBB-4071-85D5-6B52DAE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AEEA-275C-4AE9-964F-D4C0ACC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C634-D5F1-4DD8-8C9F-B72FB4A2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6D93-BD4E-44C1-B22A-E7798DCB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7B2C-1BC7-4341-B44B-8FE8668B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591C7-2D24-4E81-9C0E-80EC6D8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6A2-0CE9-4DCD-8119-DB2666A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6AD2-68D6-4DA0-9E19-4AB9CF9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722E-0B0B-447A-9C82-E201CD1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748CD-C4D4-45C3-A0EF-E773C06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A2FB-36CC-4E9B-991D-3BBBA38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18C2-C710-4701-90B9-93D4C76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9418-1CBE-4FFB-BF75-8C17D35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57C1-B768-4EA2-9FBC-32BBD6F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D8CB-DDD8-4481-82CC-333E47A2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1676-1E08-4D01-982A-B676E016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359F-568F-4D72-9A37-3CB3BEEF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49C-A307-4621-B4EA-1747BC5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A82F-889F-4217-944E-9225FDC6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12B2-33AD-4118-A122-0C573AD3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6545-EC9D-4392-B628-E2FA4E6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7822-8261-47F5-BE8C-10533052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E10F8-180D-4A39-98FA-2B06FE56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51D4-F831-4B2C-81A6-8D0FF9D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F3D3-80FF-4B33-BE61-95AA67A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891C-712B-466F-96F5-FFD9A49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913D-D501-4993-BC34-8EE9BD1C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2596-893B-4874-948C-012C8679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47D-8089-4A2F-907F-66C3D9E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3706-2A83-44CB-B937-314D42A2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66DC-5051-4E3A-8DA5-95FF6ADA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71E95-3A37-44FE-A16D-3959C88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CE8B-2224-4973-A817-5CDF35F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84BE-3EC7-46C7-9C90-A69A936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FD9B-3108-4C2E-8C78-99AE513D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25796-F98F-4383-BB66-BE8CD4F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BE47-7DCF-4080-8F6D-2695F2C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37C8D-6E7A-4600-BD5A-AD18337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A2BF-17F5-4F7E-93B6-BEF4445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0BA-FF3D-44A6-AC9C-2350C2F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47EF4-4D2F-4E28-B98F-8E8AA42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E5E97-618C-403D-82DB-18771568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16E2-0AB3-4886-9E93-E0362748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8E35-78F4-4363-8949-5A675375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7A811-AC5E-4924-95B2-FCC0309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D228-4534-479B-8D44-F7D3908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A7E7-407A-4A47-80A8-16C1E13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3895-A552-418D-920F-31CEED70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3311F-AD4B-4FA0-A9C2-2CFEB54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04C8-EA68-4BC6-B4FB-C564813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59E-CFE3-4A25-A60A-387C7CE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EA03-C610-4501-B2F5-8127ECA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C427-4353-46EF-8A8D-12D99CF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CEF22-1ED8-4DC2-B312-FE31FB4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6990-8257-48DF-9C05-B93F1856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1278-A245-4868-9268-643AB6D5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3747B-3B18-42C6-9E98-384CB2DC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66F7B-E0BA-45FB-A627-624D6A0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E024F-D58B-4CD0-A6DE-C3AA3677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BF04-9DE8-439D-A1D4-229CE69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A7E7-1795-4E75-9AA8-15BF0E4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4EF-C185-46E5-959E-9B9C2A1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907F2-3AA5-4849-9F69-ED347C38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2EE3-DC26-40F9-BCD6-0596B11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710C-841B-431D-939A-2B16755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7DE50-3A0F-4168-8E9D-48E2429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6C321-33CF-4C72-A935-F3478F75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E64A-155D-46A9-A8F0-42709162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473D-75A9-4AAB-9654-8A853D7B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3495F-24C6-4A29-B045-DAB138DD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D419A-2863-4E33-AE64-E64FBB6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21BB8-B69C-4484-86A0-5DC93484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678-B7AC-4FA0-89A5-4D60652A1A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EB1-0076-47C9-863C-33CABA2865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68A-E687-40DE-9399-61AA2F4BEE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715-828E-4FB2-987F-711052D840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0AB-2542-421F-95EF-1F871B19E5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55E-277A-4627-8997-A2364C1D7E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720-1E86-402F-9EE5-E9F5F99F14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FA2D-712C-42AC-8BE3-17BC71AE1B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6240-6423-4670-B4D1-B0A464C67A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551-D955-453C-9A3F-F4D3092E27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233-63FA-4013-9B4E-29188168AD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B3F-0EB0-4AE7-852E-0EA8014C09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9 Vie Pán, čo pre mň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šetko múdro riad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a s láskou pove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bám na jeho r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mocný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 hrobu b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život môj raz zhas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ýchodisko spás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sklamal on nik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Slovo jeho pravda j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hojí všetky kriv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on je môj, už nepok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srdca nenaru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každú búrku stíš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ie o mojom ži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ieru moju podopr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rak mi slza 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 bôľ môj dá balzam sv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kol sa čo chce 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jeho láska hr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evzpieram sa tomu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Otec lepšie rozum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kedy dať a ko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čierny mrak mô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trie z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, hrob ma nepredes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lávne raz ma vzkries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28:40Z</dcterms:modified>
  <cp:revision>22</cp:revision>
  <dc:subject/>
  <dc:title>Je veľký náš Pán, on slávy je Kráľ Nech do všetkých strán  spev vrúcnych znie chvál.</dc:title>
</cp:coreProperties>
</file>